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311-0993-4B91-B026-39989853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9EF-0F2B-4749-9D1F-A565713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F3D-01EE-41BA-A9E9-DC4879A4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FE8-7EA9-4BC5-81AB-0F8368D1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417-ED37-4AA4-A841-2F56AE1E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485-0EDA-4161-922D-CBC6C0F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3B9-CE6C-4CE5-8AA1-993A56D3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625-B033-458E-B093-2D16FBBB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9FFC-729D-4322-866A-3F4C077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E17A-BFAF-4EBC-ADB1-003AA134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DC3-59D0-4803-A9AA-095C9FBA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1FF-9088-4250-A9D8-E0EA303E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925F-FC00-47A6-991E-E366A10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9B5-D23A-4247-AB2F-C46153D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9339-2E31-4A03-BB33-E96AB2FC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432-4F14-4E4E-872C-DED30C29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F102-5291-4ADA-95CA-74858852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7E13-75C6-428D-ACB5-0F31FC2F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F6BC-0D73-413C-939D-F04DC84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94E3-7FF1-4EFF-901B-F2945EEE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ADC8-28E8-4083-9761-F43D4AD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8350-135B-4174-A303-62E0FE5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28C-1F09-4D69-975A-B88F12D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A3D2-C8D7-401D-A44E-346A1F4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4AF4-45AC-4DBF-8CDC-FA043E8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3FAD-55B1-4AF8-9E7A-B725536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6EA5-BECC-4F63-A237-7E22595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3ECC-6301-4CE7-B265-D37E1C4B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A5B5-3D28-4F0B-9823-7A51195B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F2A6-BA7A-4CCC-91A7-06AF7776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5782-D02F-4ACB-91E3-6EE465F2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B697-3DC1-4B06-98BB-B7ECCCEB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5101-F352-44B0-AC6C-56677804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3A7-CC30-45EE-8525-AC025B7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4A9D-CEE9-437A-9116-A0D5DC4E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4DB5-34D6-47B7-89AF-AD30CCCD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54F8-1313-453A-BD7D-D9B6DE48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1582-D946-43AC-9B6F-27A1977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E34B-C734-43C8-A306-022F4A9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E49B-7E06-4E81-8178-9EF6728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E17B-5513-4C8E-A943-A5421EB1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2C37-A7AE-4BFB-B68F-A35567A0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8813-E64B-4441-A289-E86BF2A2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6B0F1-6272-4CA1-A878-134EA625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BD5-B914-4F15-BC8E-E8BDEEF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6935-DA42-4A81-80EB-E1A4A6C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9D46-9A5E-413F-8ED2-FD2B78C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3C3E-B33A-4BDB-95D7-EBCEB07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1CBB-C100-459D-BE3B-D942E39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06DC-142B-4D81-A938-8AAB36EB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FE5D-24F5-4521-802E-E5EC43A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51E7A-1C12-4358-BC02-CB79306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488C-67EC-4ABF-9E1D-1A3D755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F365-26C9-4CE9-815A-925745D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0D9F-C608-4E9D-9D2C-FE445778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CD0-8158-48C6-B297-7F31A63F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05EC-D05E-437B-8AF7-DB751184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0393-5E7B-4B54-819E-D867067E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746A4-1A84-485E-9448-984D46CE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9E17-F10B-42CE-81E0-571934A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FDF1-68E0-4037-8502-7ACF8319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7E3C-3466-460F-9DF6-958E9CA2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4FEF-C443-4871-A80B-003C07B0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CC0F4-6D3C-4889-B487-8094BB5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9AF9-1D79-46BD-A624-7B8C460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3AC4-0674-4F2D-BC12-A384EE4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73D-A45F-4204-B578-C91A1F1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40A9-FFD7-4141-923B-D849BE51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F97A-E0DB-43CF-9A27-AFC232A7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DAF9-2F50-45D7-BCE4-1749F877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2765-E3E7-46D6-A907-2BAF7268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4006-8CA2-4C20-AA84-C952F57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4E1B-CD97-4103-9281-AF02128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7307-1AFE-4EFF-9750-0966EB1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95EB-3525-4662-87DB-7A9E96D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DBB9-FFAF-4ABB-A1AF-2FC3B9F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6BB9-FFBD-4400-88BB-444497D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AA8-EE6A-42C9-9CAD-5A25623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7D74-9DC9-4109-8411-B36133DA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9CEC-0434-42F2-8A42-1BC9CB9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B135-067F-4847-9A7B-87B2C31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3047-0FB4-41A2-BEAF-C079E305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D68B-8EF2-4524-A5E3-EDE5BBEB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EE82-03C6-4373-8254-382DEFDA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7F839-28F9-41C1-A9AD-784315B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BA13-0F7A-4256-B6FF-EEB23DE7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D17C-E6E6-41C3-9BD6-37B11CD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D0A9-BD5A-4CF8-BBE4-72EFB651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103-D56F-4DE5-B55E-CE9C9F4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4C60-0548-4049-A25D-93AE0CB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CF2E-2A39-411D-A385-CB059B0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A8B5F-6FCC-4D62-8611-8E14E5B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9C4D-30BE-43E1-B1BB-35C2609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FB21D-1BE3-448C-8D27-FA33493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6FC44-0AAB-4259-9B94-0D311B8A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8F2D-BE3A-4540-8915-BCE0CC1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B02-827B-4D5D-B029-604994AA45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2F0A-D487-40EE-AA83-D71DCB40AD5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7E6-04B9-425D-9619-4825722C6B5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1573-A351-4D9E-925A-D1FF6842B37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C65E-E5F6-41E5-9B9A-19525A5E0FC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F80-A3F9-4D5B-B518-52F0C886C06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736-F8B4-4D74-9055-D4EFDF9E712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743-37C7-4703-B2F7-3AAA2187D86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8137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ru-RU" sz="8000" spc="-1" strike="noStrike">
                <a:solidFill>
                  <a:srgbClr val="000000"/>
                </a:solidFill>
                <a:latin typeface="Lucida Sans Unicode"/>
              </a:rPr>
              <a:t>Линейные неравенства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8229600" cy="15541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2х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+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4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≥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х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≥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+ 6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х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≥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≥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5076720" y="3429000"/>
            <a:ext cx="324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rc 14"/>
          <p:cNvSpPr/>
          <p:nvPr/>
        </p:nvSpPr>
        <p:spPr>
          <a:xfrm flipV="1" rot="10800000">
            <a:off x="5724360" y="278028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5580000" y="3284640"/>
            <a:ext cx="2174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7884000" y="342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550836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3564000" y="4508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[1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;+∞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трелка вправо 11"/>
          <p:cNvSpPr/>
          <p:nvPr/>
        </p:nvSpPr>
        <p:spPr>
          <a:xfrm>
            <a:off x="5796000" y="3357720"/>
            <a:ext cx="24480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2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1)  х+2 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≥ 2,5х-1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х- 0,25(х+4)+0,5(3х-1)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3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²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+х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х(х-5)+2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32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3961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1) х+2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≥ 2,5х-1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-2,5х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≥ -2 -1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 1,5х ≥ - 3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х ≤ 2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          х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тве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: (-∞;2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84720" y="1125360"/>
            <a:ext cx="475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) х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+х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х(х-5)+2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+х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5х +2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х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х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+5х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2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6х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2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⅓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                 ⅓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(-∞;⅓)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5157720"/>
            <a:ext cx="2880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2"/>
          <p:cNvSpPr/>
          <p:nvPr/>
        </p:nvSpPr>
        <p:spPr>
          <a:xfrm>
            <a:off x="2771640" y="4292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rc 14"/>
          <p:cNvSpPr/>
          <p:nvPr/>
        </p:nvSpPr>
        <p:spPr>
          <a:xfrm flipH="1" flipV="1" rot="10800000">
            <a:off x="1114920" y="4005360"/>
            <a:ext cx="1730520" cy="288720"/>
          </a:xfrm>
          <a:custGeom>
            <a:avLst/>
            <a:gdLst>
              <a:gd name="textAreaLeft" fmla="*/ -360 w 1730520"/>
              <a:gd name="textAreaRight" fmla="*/ 1730520 w 1730520"/>
              <a:gd name="textAreaTop" fmla="*/ 360 h 288720"/>
              <a:gd name="textAreaBottom" fmla="*/ 28944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"/>
          <p:cNvSpPr/>
          <p:nvPr/>
        </p:nvSpPr>
        <p:spPr>
          <a:xfrm>
            <a:off x="5796000" y="4508640"/>
            <a:ext cx="2879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rc 14"/>
          <p:cNvSpPr/>
          <p:nvPr/>
        </p:nvSpPr>
        <p:spPr>
          <a:xfrm flipH="1" flipV="1" rot="10800000">
            <a:off x="5651640" y="4508640"/>
            <a:ext cx="1730160" cy="288720"/>
          </a:xfrm>
          <a:custGeom>
            <a:avLst/>
            <a:gdLst>
              <a:gd name="textAreaLeft" fmla="*/ 360 w 1730160"/>
              <a:gd name="textAreaRight" fmla="*/ 1730880 w 1730160"/>
              <a:gd name="textAreaTop" fmla="*/ 360 h 288720"/>
              <a:gd name="textAreaBottom" fmla="*/ 28944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7236000" y="4797360"/>
            <a:ext cx="215640" cy="144360"/>
          </a:xfrm>
          <a:custGeom>
            <a:avLst/>
            <a:gdLst>
              <a:gd name="textAreaLeft" fmla="*/ 31320 w 215640"/>
              <a:gd name="textAreaRight" fmla="*/ 184320 w 21564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трелка вправо 10"/>
          <p:cNvSpPr/>
          <p:nvPr/>
        </p:nvSpPr>
        <p:spPr>
          <a:xfrm>
            <a:off x="826920" y="4437000"/>
            <a:ext cx="2953080" cy="71640"/>
          </a:xfrm>
          <a:prstGeom prst="rightArrow">
            <a:avLst>
              <a:gd name="adj1" fmla="val 50000"/>
              <a:gd name="adj2" fmla="val 4980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трелка вправо 11"/>
          <p:cNvSpPr/>
          <p:nvPr/>
        </p:nvSpPr>
        <p:spPr>
          <a:xfrm>
            <a:off x="5724360" y="4941720"/>
            <a:ext cx="2951280" cy="71640"/>
          </a:xfrm>
          <a:prstGeom prst="rightArrow">
            <a:avLst>
              <a:gd name="adj1" fmla="val 50000"/>
              <a:gd name="adj2" fmla="val 4977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риант 1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) 3х≤21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-5х&lt;35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3х+6≤3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2-6х&gt;14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3-9х≤1-х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5(х+4)&lt;2(4х-5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риант 2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) 2х≥18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-4х&gt;16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5х+11≥1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3-2х&lt;-1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2≤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12х-1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3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х-1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&gt;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2(5х-7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риант 1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-∞;7]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7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-∞;-1]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-∞;-2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[0,25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10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риант 2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[9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-∞;-4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[-2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2;∞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-∞;0,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 (-∞;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Неравенства бывают: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линейные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квадратн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иррациональн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1979280" y="198900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4716360" y="2060640"/>
            <a:ext cx="100800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2626920" y="1989000"/>
            <a:ext cx="792360" cy="25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4140360" y="2060640"/>
            <a:ext cx="863280" cy="30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231920" y="23760"/>
            <a:ext cx="7040520" cy="6350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340000" y="1628640"/>
          <a:ext cx="6059520" cy="2503800"/>
        </p:xfrm>
        <a:graphic>
          <a:graphicData uri="http://schemas.openxmlformats.org/drawingml/2006/table">
            <a:tbl>
              <a:tblPr/>
              <a:tblGrid>
                <a:gridCol w="1514520"/>
                <a:gridCol w="1515960"/>
                <a:gridCol w="1514520"/>
                <a:gridCol w="1514520"/>
              </a:tblGrid>
              <a:tr h="81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метрическ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числовых промежу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 &gt; 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а ; + ∞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ый лу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 ≥ 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[а ; + ∞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у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 &lt; 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- ∞; в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ый луч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340000" y="4076640"/>
          <a:ext cx="6059520" cy="2286000"/>
        </p:xfrm>
        <a:graphic>
          <a:graphicData uri="http://schemas.openxmlformats.org/drawingml/2006/table">
            <a:tbl>
              <a:tblPr/>
              <a:tblGrid>
                <a:gridCol w="1514520"/>
                <a:gridCol w="1515960"/>
                <a:gridCol w="1514520"/>
                <a:gridCol w="151452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 ≤ 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- ∞; в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у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 &lt; х &lt; 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   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а ; в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  ≤ х ≤  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[а ; в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з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 ≤  х  &lt;  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[а ; в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уинтерва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Line 196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7"/>
          <p:cNvSpPr/>
          <p:nvPr/>
        </p:nvSpPr>
        <p:spPr>
          <a:xfrm>
            <a:off x="3995640" y="3213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8"/>
          <p:cNvSpPr/>
          <p:nvPr/>
        </p:nvSpPr>
        <p:spPr>
          <a:xfrm>
            <a:off x="4067280" y="3789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9"/>
          <p:cNvSpPr/>
          <p:nvPr/>
        </p:nvSpPr>
        <p:spPr>
          <a:xfrm>
            <a:off x="3995640" y="43657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00"/>
          <p:cNvSpPr/>
          <p:nvPr/>
        </p:nvSpPr>
        <p:spPr>
          <a:xfrm>
            <a:off x="3995640" y="49417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1"/>
          <p:cNvSpPr/>
          <p:nvPr/>
        </p:nvSpPr>
        <p:spPr>
          <a:xfrm>
            <a:off x="4067280" y="5516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2"/>
          <p:cNvSpPr/>
          <p:nvPr/>
        </p:nvSpPr>
        <p:spPr>
          <a:xfrm>
            <a:off x="3995640" y="602136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421164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214"/>
          <p:cNvSpPr/>
          <p:nvPr/>
        </p:nvSpPr>
        <p:spPr>
          <a:xfrm flipV="1">
            <a:off x="4572000" y="3070080"/>
            <a:ext cx="144360" cy="22320"/>
          </a:xfrm>
          <a:custGeom>
            <a:avLst/>
            <a:gdLst>
              <a:gd name="textAreaLeft" fmla="*/ 0 w 144360"/>
              <a:gd name="textAreaRight" fmla="*/ 144360 w 144360"/>
              <a:gd name="textAreaTop" fmla="*/ 360 h 22320"/>
              <a:gd name="textAreaBottom" fmla="*/ 23040 h 22320"/>
            </a:gdLst>
            <a:ahLst/>
            <a:rect l="textAreaLeft" t="textAreaTop" r="textAreaRight" b="textAreaBottom"/>
            <a:pathLst>
              <a:path fill="none" w="21600" h="6808">
                <a:moveTo>
                  <a:pt x="20499" y="-1"/>
                </a:moveTo>
                <a:cubicBezTo>
                  <a:pt x="21228" y="2195"/>
                  <a:pt x="21599" y="4493"/>
                  <a:pt x="21599" y="6807"/>
                </a:cubicBezTo>
              </a:path>
              <a:path stroke="0" w="21600" h="6808">
                <a:moveTo>
                  <a:pt x="20499" y="-1"/>
                </a:moveTo>
                <a:cubicBezTo>
                  <a:pt x="21228" y="2195"/>
                  <a:pt x="21599" y="4493"/>
                  <a:pt x="21599" y="6807"/>
                </a:cubicBezTo>
                <a:lnTo>
                  <a:pt x="0" y="6808"/>
                </a:lnTo>
                <a:lnTo>
                  <a:pt x="2049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15"/>
          <p:cNvSpPr/>
          <p:nvPr/>
        </p:nvSpPr>
        <p:spPr>
          <a:xfrm>
            <a:off x="4140360" y="2637000"/>
            <a:ext cx="144360" cy="122040"/>
          </a:xfrm>
          <a:custGeom>
            <a:avLst/>
            <a:gdLst>
              <a:gd name="textAreaLeft" fmla="*/ 20880 w 144360"/>
              <a:gd name="textAreaRight" fmla="*/ 123480 w 144360"/>
              <a:gd name="textAreaTop" fmla="*/ 17640 h 122040"/>
              <a:gd name="textAreaBottom" fmla="*/ 10440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2"/>
          <p:cNvSpPr/>
          <p:nvPr/>
        </p:nvSpPr>
        <p:spPr>
          <a:xfrm>
            <a:off x="4716360" y="4365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18"/>
          <p:cNvSpPr/>
          <p:nvPr/>
        </p:nvSpPr>
        <p:spPr>
          <a:xfrm>
            <a:off x="4643280" y="3716280"/>
            <a:ext cx="144720" cy="14292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9"/>
          <p:cNvSpPr/>
          <p:nvPr/>
        </p:nvSpPr>
        <p:spPr>
          <a:xfrm>
            <a:off x="4211640" y="4869000"/>
            <a:ext cx="144360" cy="1425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560"/>
              <a:gd name="textAreaBottom" fmla="*/ 1216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20"/>
          <p:cNvSpPr/>
          <p:nvPr/>
        </p:nvSpPr>
        <p:spPr>
          <a:xfrm>
            <a:off x="4643280" y="4869000"/>
            <a:ext cx="144720" cy="1425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2560"/>
              <a:gd name="textAreaBottom" fmla="*/ 1216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21"/>
          <p:cNvSpPr/>
          <p:nvPr/>
        </p:nvSpPr>
        <p:spPr>
          <a:xfrm>
            <a:off x="4859280" y="595008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4284720" y="544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2"/>
          <p:cNvSpPr/>
          <p:nvPr/>
        </p:nvSpPr>
        <p:spPr>
          <a:xfrm>
            <a:off x="4788000" y="551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414036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34"/>
          <p:cNvSpPr/>
          <p:nvPr/>
        </p:nvSpPr>
        <p:spPr>
          <a:xfrm>
            <a:off x="4140360" y="2565360"/>
            <a:ext cx="706320" cy="119160"/>
          </a:xfrm>
          <a:custGeom>
            <a:avLst/>
            <a:gdLst>
              <a:gd name="textAreaLeft" fmla="*/ 0 w 706320"/>
              <a:gd name="textAreaRight" fmla="*/ 706320 w 7063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35"/>
          <p:cNvSpPr/>
          <p:nvPr/>
        </p:nvSpPr>
        <p:spPr>
          <a:xfrm>
            <a:off x="4284720" y="3068640"/>
            <a:ext cx="706320" cy="104760"/>
          </a:xfrm>
          <a:custGeom>
            <a:avLst/>
            <a:gdLst>
              <a:gd name="textAreaLeft" fmla="*/ 0 w 706320"/>
              <a:gd name="textAreaRight" fmla="*/ 706320 w 7063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36"/>
          <p:cNvSpPr/>
          <p:nvPr/>
        </p:nvSpPr>
        <p:spPr>
          <a:xfrm>
            <a:off x="4211640" y="4797360"/>
            <a:ext cx="706320" cy="104760"/>
          </a:xfrm>
          <a:custGeom>
            <a:avLst/>
            <a:gdLst>
              <a:gd name="textAreaLeft" fmla="*/ 0 w 706320"/>
              <a:gd name="textAreaRight" fmla="*/ 706320 w 7063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37"/>
          <p:cNvSpPr/>
          <p:nvPr/>
        </p:nvSpPr>
        <p:spPr>
          <a:xfrm flipH="1">
            <a:off x="4139640" y="4221000"/>
            <a:ext cx="647640" cy="14472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38"/>
          <p:cNvSpPr/>
          <p:nvPr/>
        </p:nvSpPr>
        <p:spPr>
          <a:xfrm>
            <a:off x="4356000" y="5300640"/>
            <a:ext cx="706680" cy="104760"/>
          </a:xfrm>
          <a:custGeom>
            <a:avLst/>
            <a:gdLst>
              <a:gd name="textAreaLeft" fmla="*/ 0 w 706680"/>
              <a:gd name="textAreaRight" fmla="*/ 706680 w 706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39"/>
          <p:cNvSpPr/>
          <p:nvPr/>
        </p:nvSpPr>
        <p:spPr>
          <a:xfrm>
            <a:off x="4211640" y="5877000"/>
            <a:ext cx="934920" cy="104760"/>
          </a:xfrm>
          <a:custGeom>
            <a:avLst/>
            <a:gdLst>
              <a:gd name="textAreaLeft" fmla="*/ 0 w 934920"/>
              <a:gd name="textAreaRight" fmla="*/ 935280 w 9349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40"/>
          <p:cNvSpPr/>
          <p:nvPr/>
        </p:nvSpPr>
        <p:spPr>
          <a:xfrm flipH="1">
            <a:off x="3995640" y="5877000"/>
            <a:ext cx="936720" cy="73080"/>
          </a:xfrm>
          <a:custGeom>
            <a:avLst/>
            <a:gdLst>
              <a:gd name="textAreaLeft" fmla="*/ 360 w 936720"/>
              <a:gd name="textAreaRight" fmla="*/ 937440 w 936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1"/>
          <p:cNvSpPr/>
          <p:nvPr/>
        </p:nvSpPr>
        <p:spPr>
          <a:xfrm flipH="1">
            <a:off x="4067280" y="5300640"/>
            <a:ext cx="720720" cy="14436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42"/>
          <p:cNvSpPr/>
          <p:nvPr/>
        </p:nvSpPr>
        <p:spPr>
          <a:xfrm flipH="1">
            <a:off x="3995640" y="4797360"/>
            <a:ext cx="720720" cy="1429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43"/>
          <p:cNvSpPr/>
          <p:nvPr/>
        </p:nvSpPr>
        <p:spPr>
          <a:xfrm flipH="1">
            <a:off x="4066560" y="3645000"/>
            <a:ext cx="647640" cy="7128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445" h="75">
                <a:moveTo>
                  <a:pt x="0" y="75"/>
                </a:moveTo>
                <a:cubicBezTo>
                  <a:pt x="28" y="0"/>
                  <a:pt x="106" y="4"/>
                  <a:pt x="177" y="3"/>
                </a:cubicBezTo>
                <a:cubicBezTo>
                  <a:pt x="266" y="1"/>
                  <a:pt x="356" y="3"/>
                  <a:pt x="44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1" descr=""/>
          <p:cNvPicPr/>
          <p:nvPr/>
        </p:nvPicPr>
        <p:blipFill>
          <a:blip r:embed="rId2"/>
          <a:stretch/>
        </p:blipFill>
        <p:spPr>
          <a:xfrm>
            <a:off x="1617840" y="669960"/>
            <a:ext cx="70578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41911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) [-2;4]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) (-3;3)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) (3;+∞)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) (-∞;4]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) (-5;+∞)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aecd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1faecd"/>
                </a:solidFill>
                <a:latin typeface="Lucida Sans Unicode"/>
              </a:rPr>
              <a:t>)</a:t>
            </a:r>
            <a:r>
              <a:rPr b="1" lang="ru-RU" sz="3600" spc="-1" strike="noStrike">
                <a:solidFill>
                  <a:srgbClr val="1faecd"/>
                </a:solidFill>
                <a:latin typeface="Lucida Sans Unicode"/>
              </a:rPr>
              <a:t>  (0;7]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8320" y="2205000"/>
            <a:ext cx="403848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) х≥2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) х≤3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) х&gt;8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) х&lt;5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) -4&lt;х&lt;7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0099"/>
                </a:solidFill>
                <a:latin typeface="Lucida Sans Unicode"/>
              </a:rPr>
              <a:t>)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 -2≤х&lt;6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ь вид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; а≥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; а≤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</a:t>
            </a:r>
            <a:r>
              <a:rPr b="1" i="1" lang="ru-RU" sz="2800" spc="-1" strike="noStrike">
                <a:solidFill>
                  <a:srgbClr val="44b9e8"/>
                </a:solidFill>
                <a:latin typeface="Times New Roman"/>
                <a:ea typeface="Times New Roman"/>
              </a:rPr>
              <a:t>неравенств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авенства вид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ся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44b9e8"/>
                </a:solidFill>
                <a:latin typeface="Times New Roman"/>
                <a:ea typeface="Times New Roman"/>
              </a:rPr>
              <a:t>нестрогими</a:t>
            </a:r>
            <a:r>
              <a:rPr b="1" i="1" lang="ru-RU" sz="2800" spc="-1" strike="noStrike">
                <a:solidFill>
                  <a:srgbClr val="44b9e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а вид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с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44b9e8"/>
                </a:solidFill>
                <a:latin typeface="Arial"/>
              </a:rPr>
              <a:t>строги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Решен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м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неравенств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с одной переменной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значение переменной, которое обращает 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верное числовое неравенств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рави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юбой член неравенства можно переносить из одной части неравенства в другую, изменив его знак на противоположный, при этом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знак неравенства не изменится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рави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е части неравенства можно умножить или разделить на одно и тоже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ложительное чис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при этом знак  неравенства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е изменит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рави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е части неравенства можно умножить или разделить на одно и тоже </a:t>
            </a:r>
            <a:r>
              <a:rPr b="0" lang="ru-RU" sz="3600" spc="-1" strike="noStrike">
                <a:solidFill>
                  <a:srgbClr val="44b9e8"/>
                </a:solidFill>
                <a:latin typeface="Times New Roman"/>
              </a:rPr>
              <a:t>отрицательное чис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при этом знак  неравенства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изменится на противоположный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6х-13х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5        </a:t>
            </a:r>
            <a:r>
              <a:rPr b="0" i="1" lang="ru-RU" sz="1800" spc="-1" strike="noStrike">
                <a:solidFill>
                  <a:srgbClr val="da1f28"/>
                </a:solidFill>
                <a:latin typeface="Lucida Sans Unicode"/>
              </a:rPr>
              <a:t>слагаемое </a:t>
            </a:r>
            <a:r>
              <a:rPr b="1" i="1" lang="ru-RU" sz="1800" spc="-1" strike="noStrike">
                <a:solidFill>
                  <a:srgbClr val="da1f28"/>
                </a:solidFill>
                <a:latin typeface="Lucida Sans Unicode"/>
              </a:rPr>
              <a:t>13х</a:t>
            </a:r>
            <a:r>
              <a:rPr b="0" i="1" lang="ru-RU" sz="1800" spc="-1" strike="noStrike">
                <a:solidFill>
                  <a:srgbClr val="da1f28"/>
                </a:solidFill>
                <a:latin typeface="Lucida Sans Unicode"/>
              </a:rPr>
              <a:t> с противоположным      знако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a1f28"/>
                </a:solidFill>
                <a:latin typeface="Lucida Sans Unicode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da1f28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da1f28"/>
                </a:solidFill>
                <a:latin typeface="Arial"/>
              </a:rPr>
              <a:t>перенесли </a:t>
            </a:r>
            <a:r>
              <a:rPr b="0" i="1" lang="ru-RU" sz="1800" spc="-1" strike="noStrike">
                <a:solidFill>
                  <a:srgbClr val="da1f28"/>
                </a:solidFill>
                <a:latin typeface="Lucida Sans Unicode"/>
              </a:rPr>
              <a:t>в левую часть неравенств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х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5                </a:t>
            </a:r>
            <a:r>
              <a:rPr b="0" i="1" lang="ru-RU" sz="1800" spc="-1" strike="noStrike">
                <a:solidFill>
                  <a:srgbClr val="ff8119"/>
                </a:solidFill>
                <a:latin typeface="Lucida Sans Unicode"/>
              </a:rPr>
              <a:t>привели подобные слагаемы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5                 </a:t>
            </a:r>
            <a:r>
              <a:rPr b="0" i="1" lang="ru-RU" sz="1800" spc="-1" strike="noStrike">
                <a:solidFill>
                  <a:srgbClr val="44b9e8"/>
                </a:solidFill>
                <a:latin typeface="Lucida Sans Unicode"/>
              </a:rPr>
              <a:t>поделили обе части неравенства на </a:t>
            </a:r>
            <a:r>
              <a:rPr b="1" i="1" lang="ru-RU" sz="1800" spc="-1" strike="noStrike">
                <a:solidFill>
                  <a:srgbClr val="44b9e8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15       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вет: (15;+∞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24" name="Прямая со стрелкой 4"/>
          <p:cNvCxnSpPr/>
          <p:nvPr/>
        </p:nvCxnSpPr>
        <p:spPr>
          <a:xfrm>
            <a:off x="1186920" y="4723920"/>
            <a:ext cx="200124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425" name="AutoShape 5"/>
          <p:cNvSpPr/>
          <p:nvPr/>
        </p:nvSpPr>
        <p:spPr>
          <a:xfrm>
            <a:off x="1403280" y="465300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6"/>
          <p:cNvSpPr/>
          <p:nvPr/>
        </p:nvSpPr>
        <p:spPr>
          <a:xfrm>
            <a:off x="1476360" y="4365720"/>
            <a:ext cx="1395360" cy="35244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879" h="131">
                <a:moveTo>
                  <a:pt x="0" y="131"/>
                </a:moveTo>
                <a:cubicBezTo>
                  <a:pt x="9" y="75"/>
                  <a:pt x="29" y="38"/>
                  <a:pt x="85" y="26"/>
                </a:cubicBezTo>
                <a:cubicBezTo>
                  <a:pt x="115" y="6"/>
                  <a:pt x="132" y="6"/>
                  <a:pt x="170" y="0"/>
                </a:cubicBezTo>
                <a:cubicBezTo>
                  <a:pt x="403" y="3"/>
                  <a:pt x="637" y="13"/>
                  <a:pt x="870" y="13"/>
                </a:cubicBezTo>
                <a:cubicBezTo>
                  <a:pt x="879" y="13"/>
                  <a:pt x="844" y="7"/>
                  <a:pt x="844" y="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0"/>
          <p:cNvSpPr/>
          <p:nvPr/>
        </p:nvSpPr>
        <p:spPr>
          <a:xfrm>
            <a:off x="1547640" y="4724280"/>
            <a:ext cx="1285920" cy="1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4:48:34Z</dcterms:created>
  <dc:creator>1;Горкина Г.А.</dc:creator>
  <dc:description/>
  <dc:language>en-US</dc:language>
  <cp:lastModifiedBy>Admin</cp:lastModifiedBy>
  <dcterms:modified xsi:type="dcterms:W3CDTF">2024-04-27T04:19:03Z</dcterms:modified>
  <cp:revision>9</cp:revision>
  <dc:subject/>
  <dc:title>Слайд 1</dc:title>
</cp:coreProperties>
</file>